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87E-3641-4C06-8D66-BEC3C01D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32A-9166-4CE3-8110-632C91E1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EBE-805F-4F13-A26E-77BDD9C1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A37A-5A03-4B06-99C6-E591F36E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AE25-3602-4854-A271-D0F04EB7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A2B7-A7CF-4B94-8988-693B9CA4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8BAC-1183-4D04-9382-17649223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67EA-2791-4CA6-B791-97E0B031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B2F7-B58B-4FDA-961F-2834C3F2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231C-C838-4F7B-A678-72116E2E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56E7-F81D-48A1-87FB-AB6D6CD5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402D-DE40-4E7B-AE85-927BEE1C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2028-C86B-4FD9-B5C2-2C7AAF40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1C29-43B8-4FFD-8B7B-32550A62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35C2-49D1-485F-B052-F235E4FC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DB85-8683-4A16-8831-649E783D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77B2-1287-4AFD-99A2-FE6D3991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4E3-1569-4591-A4E6-681AD3D6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419-6824-470B-9399-D061B102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3D5-F6A1-4F62-A80B-3F4F80A7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E17-FBEC-40FA-8F25-22F8530F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3B8-DCEE-4EBF-AD2D-CCF51C76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993-9AEE-470A-8D46-A9F9FD8F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8B8-42A0-40CB-8BDF-9E4AF0CF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E23B-B092-4AEA-A96F-4B7C7F5567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8E1F-B66E-4470-A444-84B3EC6EB7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集装箱的承载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内容占位符 4" descr=""/>
          <p:cNvPicPr/>
          <p:nvPr/>
        </p:nvPicPr>
        <p:blipFill>
          <a:blip r:embed="rId1"/>
          <a:stretch/>
        </p:blipFill>
        <p:spPr>
          <a:xfrm>
            <a:off x="584280" y="1549440"/>
            <a:ext cx="76676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内容占位符 3" descr=""/>
          <p:cNvPicPr/>
          <p:nvPr/>
        </p:nvPicPr>
        <p:blipFill>
          <a:blip r:embed="rId1"/>
          <a:stretch/>
        </p:blipFill>
        <p:spPr>
          <a:xfrm>
            <a:off x="738360" y="1719360"/>
            <a:ext cx="81230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内容占位符 3" descr=""/>
          <p:cNvPicPr/>
          <p:nvPr/>
        </p:nvPicPr>
        <p:blipFill>
          <a:blip r:embed="rId1"/>
          <a:stretch/>
        </p:blipFill>
        <p:spPr>
          <a:xfrm>
            <a:off x="372960" y="1866960"/>
            <a:ext cx="85600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9T00:03:34Z</dcterms:created>
  <dc:creator>Administrator</dc:creator>
  <dc:description/>
  <dc:language>en-US</dc:language>
  <cp:lastModifiedBy>Administrator</cp:lastModifiedBy>
  <dcterms:modified xsi:type="dcterms:W3CDTF">2019-12-19T00:04:23Z</dcterms:modified>
  <cp:revision>2</cp:revision>
  <dc:subject/>
  <dc:title>一、集装箱的承载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