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3D7-407E-4EF3-A4BB-0563D19B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457-4C9D-402A-AEBD-55262969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437-5E4F-479C-86D7-469C077A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11C-F1EB-44FD-97F3-33509D30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2152-3CD9-4236-8B32-7C6EAD7C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9BA9-3E13-42AF-A25C-01BAA9CD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B4EE-1630-4B0D-97A6-EB12B08A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C404-1249-494E-82B3-9422960E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5548-D923-4564-BCAD-9BA8C11D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A1A5-2FB6-4BD0-9934-9BE9EB3D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E215-BC2B-40F3-8C2C-A870E259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EDA-C084-47F1-9FCD-644601CD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CD4C-D5CD-4349-8F77-EAEF3F05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3ED4-00AB-4F8A-8C3B-5D5B12E6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40CD-D96B-4AF9-9894-6CD37625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E090-0675-49BE-9798-F93805AD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93FE-0BF7-4E25-81EC-632798FC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6EE-5227-4BBF-B9DD-64C43E1D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B78-3CDE-4632-9D07-66C7491F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DFD-7CCB-4BFC-8B79-D238FD66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6B1-A18B-4370-B196-A0B16B8A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DE6-74F0-4698-AED1-9BEE6D0D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F0F-5A54-4FBA-BE91-9CF996BB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B96-1C96-47C9-82FF-0630A675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299A-D06A-4BD5-B9AA-027FECA43F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704D-B925-41A7-A29A-32B621F620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外贸流程涉及的单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内容占位符 3" descr=""/>
          <p:cNvPicPr/>
          <p:nvPr/>
        </p:nvPicPr>
        <p:blipFill>
          <a:blip r:embed="rId1"/>
          <a:stretch/>
        </p:blipFill>
        <p:spPr>
          <a:xfrm>
            <a:off x="2095560" y="2090880"/>
            <a:ext cx="49528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内容占位符 3" descr=""/>
          <p:cNvPicPr/>
          <p:nvPr/>
        </p:nvPicPr>
        <p:blipFill>
          <a:blip r:embed="rId1"/>
          <a:stretch/>
        </p:blipFill>
        <p:spPr>
          <a:xfrm>
            <a:off x="642960" y="1633680"/>
            <a:ext cx="78580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内容占位符 3" descr=""/>
          <p:cNvPicPr/>
          <p:nvPr/>
        </p:nvPicPr>
        <p:blipFill>
          <a:blip r:embed="rId1"/>
          <a:stretch/>
        </p:blipFill>
        <p:spPr>
          <a:xfrm>
            <a:off x="642960" y="1609560"/>
            <a:ext cx="78580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内容占位符 3" descr=""/>
          <p:cNvPicPr/>
          <p:nvPr/>
        </p:nvPicPr>
        <p:blipFill>
          <a:blip r:embed="rId1"/>
          <a:stretch/>
        </p:blipFill>
        <p:spPr>
          <a:xfrm>
            <a:off x="1214280" y="2657520"/>
            <a:ext cx="6715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内容占位符 3" descr=""/>
          <p:cNvPicPr/>
          <p:nvPr/>
        </p:nvPicPr>
        <p:blipFill>
          <a:blip r:embed="rId1"/>
          <a:stretch/>
        </p:blipFill>
        <p:spPr>
          <a:xfrm>
            <a:off x="676440" y="1781280"/>
            <a:ext cx="77911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内容占位符 3" descr=""/>
          <p:cNvPicPr/>
          <p:nvPr/>
        </p:nvPicPr>
        <p:blipFill>
          <a:blip r:embed="rId1"/>
          <a:stretch/>
        </p:blipFill>
        <p:spPr>
          <a:xfrm>
            <a:off x="1781280" y="1800360"/>
            <a:ext cx="55814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内容占位符 3" descr=""/>
          <p:cNvPicPr/>
          <p:nvPr/>
        </p:nvPicPr>
        <p:blipFill>
          <a:blip r:embed="rId1"/>
          <a:stretch/>
        </p:blipFill>
        <p:spPr>
          <a:xfrm>
            <a:off x="657360" y="1633680"/>
            <a:ext cx="78292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产地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内容占位符 4" descr=""/>
          <p:cNvPicPr/>
          <p:nvPr/>
        </p:nvPicPr>
        <p:blipFill>
          <a:blip r:embed="rId1"/>
          <a:stretch/>
        </p:blipFill>
        <p:spPr>
          <a:xfrm>
            <a:off x="944640" y="1600200"/>
            <a:ext cx="725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内容占位符 2" descr=""/>
          <p:cNvPicPr/>
          <p:nvPr/>
        </p:nvPicPr>
        <p:blipFill>
          <a:blip r:embed="rId1"/>
          <a:stretch/>
        </p:blipFill>
        <p:spPr>
          <a:xfrm>
            <a:off x="800280" y="2171880"/>
            <a:ext cx="75438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成交前单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内容占位符 2" descr=""/>
          <p:cNvPicPr/>
          <p:nvPr/>
        </p:nvPicPr>
        <p:blipFill>
          <a:blip r:embed="rId1"/>
          <a:stretch/>
        </p:blipFill>
        <p:spPr>
          <a:xfrm>
            <a:off x="1852560" y="2324160"/>
            <a:ext cx="5438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报价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内容占位符 1" descr=""/>
          <p:cNvPicPr/>
          <p:nvPr/>
        </p:nvPicPr>
        <p:blipFill>
          <a:blip r:embed="rId1"/>
          <a:stretch/>
        </p:blipFill>
        <p:spPr>
          <a:xfrm>
            <a:off x="1104840" y="2033640"/>
            <a:ext cx="693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内容占位符 2" descr=""/>
          <p:cNvPicPr/>
          <p:nvPr/>
        </p:nvPicPr>
        <p:blipFill>
          <a:blip r:embed="rId1"/>
          <a:stretch/>
        </p:blipFill>
        <p:spPr>
          <a:xfrm>
            <a:off x="1019160" y="1700280"/>
            <a:ext cx="71056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合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内容占位符 3" descr=""/>
          <p:cNvPicPr/>
          <p:nvPr/>
        </p:nvPicPr>
        <p:blipFill>
          <a:blip r:embed="rId1"/>
          <a:stretch/>
        </p:blipFill>
        <p:spPr>
          <a:xfrm>
            <a:off x="2638440" y="1928880"/>
            <a:ext cx="386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内容占位符 1" descr=""/>
          <p:cNvPicPr/>
          <p:nvPr/>
        </p:nvPicPr>
        <p:blipFill>
          <a:blip r:embed="rId1"/>
          <a:stretch/>
        </p:blipFill>
        <p:spPr>
          <a:xfrm>
            <a:off x="1562040" y="2262240"/>
            <a:ext cx="6019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报关所需的单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内容占位符 3" descr=""/>
          <p:cNvPicPr/>
          <p:nvPr/>
        </p:nvPicPr>
        <p:blipFill>
          <a:blip r:embed="rId1"/>
          <a:stretch/>
        </p:blipFill>
        <p:spPr>
          <a:xfrm>
            <a:off x="662040" y="2424240"/>
            <a:ext cx="78199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内容占位符 3" descr=""/>
          <p:cNvPicPr/>
          <p:nvPr/>
        </p:nvPicPr>
        <p:blipFill>
          <a:blip r:embed="rId1"/>
          <a:stretch/>
        </p:blipFill>
        <p:spPr>
          <a:xfrm>
            <a:off x="750960" y="1600200"/>
            <a:ext cx="764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9T00:03:34Z</dcterms:created>
  <dc:creator>Administrator</dc:creator>
  <dc:description/>
  <dc:language>en-US</dc:language>
  <cp:lastModifiedBy>Administrator</cp:lastModifiedBy>
  <dcterms:modified xsi:type="dcterms:W3CDTF">2019-12-19T03:22:29Z</dcterms:modified>
  <cp:revision>2</cp:revision>
  <dc:subject/>
  <dc:title>一、集装箱的承载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